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7.gif" ContentType="image/gif"/>
  <Override PartName="/ppt/media/image14.jpeg" ContentType="image/jpeg"/>
  <Override PartName="/ppt/media/image8.png" ContentType="image/png"/>
  <Override PartName="/ppt/media/image13.png" ContentType="image/png"/>
  <Override PartName="/ppt/media/image6.gif" ContentType="image/gif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B678-FB88-47A1-80D6-1C472EE70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CE40-B82F-4E75-AB16-4CB0620A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6E1E-A14B-494B-9FC1-B77C01301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19DA-3C88-44E9-A438-505EBAF4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967E-8870-4A82-941D-6279F72FC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D65B-0D77-41F1-AE47-296B9E60B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13F1-83D3-4858-B6B0-53F443661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051A-C357-458B-A226-8E9CA3F65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81A4-3E0C-4859-858D-A7139FF6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3818-A35F-4CC6-94C4-F79E24A2D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5B3-0970-4B1E-899D-6E869A77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1CA-F2D4-4611-A59A-2FF06C47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6007-3AB9-41CB-99E6-B36E64B8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7C7-DCC2-4C48-B04B-9AFB9524A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8C2-2ECB-4A41-A8A9-86619CE9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C0A-A2DB-4A82-A962-0A80C9D4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A7F-ACE5-4802-AEF4-FE2DD8FB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4178-AFE6-48BD-8BDD-DE933327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825-6C7A-4411-80F8-226954B6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8B0-50C5-45A7-9139-FB80BE69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9E05-1632-4D46-9ECE-B2827A7C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079-592A-4F36-BB5D-31E5FFBC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5E43-7D9F-480B-830E-774A6A55DD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uman brai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340000" y="378936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cks us whenever it c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ipmc.cnrs.fr/~duprat/neurophysiology/brain.htm"/>
          <p:cNvPicPr/>
          <p:nvPr/>
        </p:nvPicPr>
        <p:blipFill>
          <a:blip r:embed="rId1"/>
          <a:stretch/>
        </p:blipFill>
        <p:spPr>
          <a:xfrm>
            <a:off x="571680" y="2500200"/>
            <a:ext cx="37782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bbinghaus Illusion"/>
          <p:cNvPicPr/>
          <p:nvPr/>
        </p:nvPicPr>
        <p:blipFill>
          <a:blip r:embed="rId1"/>
          <a:stretch/>
        </p:blipFill>
        <p:spPr>
          <a:xfrm>
            <a:off x="1219320" y="1981080"/>
            <a:ext cx="6324480" cy="3794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63920" y="144792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circle is big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28600" y="593424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you sure they aren't both the same size?  This relative size illusion is called the Ebbinghaus illusion.  It was discovered by Hermann Ebbinghaus, a German psychologist, in the early 1900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ara Nader - Roger N. Shepard"/>
          <p:cNvPicPr/>
          <p:nvPr/>
        </p:nvPicPr>
        <p:blipFill>
          <a:blip r:embed="rId1"/>
          <a:stretch/>
        </p:blipFill>
        <p:spPr>
          <a:xfrm>
            <a:off x="2666880" y="1828800"/>
            <a:ext cx="3857760" cy="4459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463480" y="129528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you see bel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468160" y="6324480"/>
            <a:ext cx="41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ady or a musician? See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Liar by Paul Agule"/>
          <p:cNvPicPr/>
          <p:nvPr/>
        </p:nvPicPr>
        <p:blipFill>
          <a:blip r:embed="rId1"/>
          <a:stretch/>
        </p:blipFill>
        <p:spPr>
          <a:xfrm>
            <a:off x="3048120" y="1295280"/>
            <a:ext cx="2790720" cy="4854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362320" y="6396120"/>
            <a:ext cx="40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o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iar by Paul Agule"/>
          <p:cNvPicPr/>
          <p:nvPr/>
        </p:nvPicPr>
        <p:blipFill>
          <a:blip r:embed="rId1"/>
          <a:stretch/>
        </p:blipFill>
        <p:spPr>
          <a:xfrm rot="17859000">
            <a:off x="4956120" y="1486080"/>
            <a:ext cx="2790720" cy="4854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2362320" y="6396120"/>
            <a:ext cx="40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ace or the word "liar"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Liar by Paul Agule"/>
          <p:cNvPicPr/>
          <p:nvPr/>
        </p:nvPicPr>
        <p:blipFill>
          <a:blip r:embed="rId2"/>
          <a:stretch/>
        </p:blipFill>
        <p:spPr>
          <a:xfrm>
            <a:off x="914400" y="1600200"/>
            <a:ext cx="257184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est things last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89308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llow the instruction below.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) Sta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4 little dots on the middle of the picture for 30 secon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) then look at a wall near you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) a bright spot will appear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) twinkle a few times and you‘ll see a figure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5) What do you see? Or even WHO do you see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jmuller\AppData\Local\Microsoft\Windows\Temporary Internet Files\Content.IE5\RZTOUHA0\Obama-Optical-Illusion[1].jpg"/>
          <p:cNvPicPr/>
          <p:nvPr/>
        </p:nvPicPr>
        <p:blipFill>
          <a:blip r:embed="rId1"/>
          <a:stretch/>
        </p:blipFill>
        <p:spPr>
          <a:xfrm>
            <a:off x="1692360" y="476280"/>
            <a:ext cx="572112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868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phenomenal power of the human mind</a:t>
            </a:r>
            <a:r>
              <a:rPr b="1" lang="de-DE" sz="2400" spc="-1" strike="noStrike">
                <a:solidFill>
                  <a:srgbClr val="000000"/>
                </a:solidFill>
                <a:latin typeface="Calibri"/>
                <a:ea typeface="Calibri"/>
              </a:rPr>
              <a:t> ...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 cdnuolt blveiee taht I cluod aulaclty uesdnatnrd waht I was rdanie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phaonmneal pweor of the hmuan mnid! Aoccdrnig to a rscheearch at Cmabrigde Uinervtisy, it deosn't mttaer inwaht oredr the ltteers in a wrod are, the olny iprmoatnt tihng is taht the frist and lsat ltteer be in the rghit pclae. The rset can be a taotl mses and you can sitll raed it wouthit a porbelm. Tihs is bcuseae the huamn mnid deos not raed ervey lteter by istlef, but the wrod as a wlohe. Amzanig huh? Yaeh, and I awlyas thought slpeling was ipmorantt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f something‘s rotating – go home, you need a break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TT-0-04637FCB270FA54C9FCAC124CC1BDD7A-image001"/>
          <p:cNvPicPr/>
          <p:nvPr/>
        </p:nvPicPr>
        <p:blipFill>
          <a:blip r:embed="rId1"/>
          <a:stretch/>
        </p:blipFill>
        <p:spPr>
          <a:xfrm>
            <a:off x="826920" y="1197000"/>
            <a:ext cx="75218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Illusions and Visual Phenome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nt to confuse your eyes and brain a bit? </a:t>
            </a: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es? Then you might want to have a look at the following pics ..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TT-2-385F5E0B0BF64147AF84097BF419BCA6-image003"/>
          <p:cNvPicPr/>
          <p:nvPr/>
        </p:nvPicPr>
        <p:blipFill>
          <a:blip r:embed="rId1"/>
          <a:stretch/>
        </p:blipFill>
        <p:spPr>
          <a:xfrm>
            <a:off x="250920" y="2131920"/>
            <a:ext cx="8642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ATT-3-91D51DEB62ABD44699E9A9ED8405CFB8-image004"/>
          <p:cNvPicPr/>
          <p:nvPr/>
        </p:nvPicPr>
        <p:blipFill>
          <a:blip r:embed="rId1"/>
          <a:stretch/>
        </p:blipFill>
        <p:spPr>
          <a:xfrm>
            <a:off x="539640" y="1008000"/>
            <a:ext cx="80647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esn‘t move!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TT-4-91906CDEAF6D8E47AE2540FB53482436-image005"/>
          <p:cNvPicPr/>
          <p:nvPr/>
        </p:nvPicPr>
        <p:blipFill>
          <a:blip r:embed="rId1"/>
          <a:stretch/>
        </p:blipFill>
        <p:spPr>
          <a:xfrm>
            <a:off x="900000" y="1379520"/>
            <a:ext cx="7272360" cy="5248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Ja, tun sie!"/>
          <p:cNvPicPr/>
          <p:nvPr/>
        </p:nvPicPr>
        <p:blipFill>
          <a:blip r:embed="rId2"/>
          <a:stretch/>
        </p:blipFill>
        <p:spPr>
          <a:xfrm>
            <a:off x="3203640" y="836640"/>
            <a:ext cx="273672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Concentrate on the cross in the middl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Calibri"/>
              </a:rPr>
              <a:t>after a while you will notice that this moving purple dot will turn green! 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TT-8-35B9939EAE184147AFE60167A7064EAC-image009"/>
          <p:cNvPicPr/>
          <p:nvPr/>
        </p:nvPicPr>
        <p:blipFill>
          <a:blip r:embed="rId1"/>
          <a:stretch/>
        </p:blipFill>
        <p:spPr>
          <a:xfrm>
            <a:off x="144360" y="1306440"/>
            <a:ext cx="5435640" cy="5435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5796000" y="4946040"/>
            <a:ext cx="30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  <a:ea typeface="Calibri"/>
              </a:rPr>
              <a:t>Look at the cross a bit longer and you‘ll notice that all dots except the green one will disapp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Optical Illusion"/>
          <p:cNvPicPr/>
          <p:nvPr/>
        </p:nvPicPr>
        <p:blipFill>
          <a:blip r:embed="rId1"/>
          <a:stretch/>
        </p:blipFill>
        <p:spPr>
          <a:xfrm>
            <a:off x="1600200" y="1447920"/>
            <a:ext cx="6054840" cy="44956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762120" y="6248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to count the number of black dots on the image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ptical Illus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62120" y="62485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lines straight or are they cur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Optical Illusion"/>
          <p:cNvPicPr/>
          <p:nvPr/>
        </p:nvPicPr>
        <p:blipFill>
          <a:blip r:embed="rId1"/>
          <a:stretch/>
        </p:blipFill>
        <p:spPr>
          <a:xfrm>
            <a:off x="838080" y="1371600"/>
            <a:ext cx="7288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7:09:20Z</dcterms:created>
  <dc:creator>Roland</dc:creator>
  <dc:description/>
  <dc:language>en-US</dc:language>
  <cp:lastModifiedBy>John Hampton</cp:lastModifiedBy>
  <dcterms:modified xsi:type="dcterms:W3CDTF">2012-02-15T19:46:08Z</dcterms:modified>
  <cp:revision>27</cp:revision>
  <dc:subject/>
  <dc:title>was das Hirn alles kann …</dc:title>
</cp:coreProperties>
</file>